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DC497-D2DD-491E-BF80-A44E897D67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AF571-416C-4CF1-99D7-B193FC935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g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99E75-8FED-4E92-8E1A-25FBC7F8A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and in the New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4F7BB-5015-49E6-98B6-2A8BFAAB5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urch of En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i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925FB-8DA4-4FAF-9707-D51A1D927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of Burg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flower Co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A7AC8-9F91-457C-ADAA-4D8B42DC2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E28-6498-4281-91EB-EEDFA080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68D-EC06-4A4C-8BCC-82ADB08D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C63-3F99-4B04-AC5C-10448D69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E59-AF47-460F-BD28-269E2647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6B5-86C7-40D4-89C6-1E4827A6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1B1-F356-4BE2-97B4-095F7CC4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982-CBDD-40B7-B4C8-DD25D64A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61F-7793-4CB8-9A2C-5976700B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34D-EDCA-4003-BC16-FABF0AD9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27E-BB3B-4726-9966-27958EE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5B3-CAE1-43E1-B373-AB2EF1EF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3C7-06C9-4511-B53C-EF6D80E3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C5664-7C74-44F0-A99D-3493B372DE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B34E6-84F7-4475-B1FA-60BE638C1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038240" y="685800"/>
            <a:ext cx="7010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o founded the Massachusetts Bay Colo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itans founded it in 163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itans wanted to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ify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Church of England, but the Church of Englan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ersecu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nathan Winthrop led the Puritan comm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990720" y="457200"/>
            <a:ext cx="6781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d colonies play a role in th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rcantil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syste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uritans received a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har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om the 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chusetts Bay Colony  succeeded on lumber and fis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3.2_colonies and tribes.jpg"/>
          <p:cNvPicPr/>
          <p:nvPr/>
        </p:nvPicPr>
        <p:blipFill>
          <a:blip r:embed="rId1"/>
          <a:stretch/>
        </p:blipFill>
        <p:spPr>
          <a:xfrm>
            <a:off x="457200" y="685800"/>
            <a:ext cx="5334120" cy="5364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477120" y="1289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6705720" y="4343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6"/>
          <p:cNvCxnSpPr>
            <a:stCxn id="52" idx="1"/>
          </p:cNvCxnSpPr>
          <p:nvPr/>
        </p:nvCxnSpPr>
        <p:spPr>
          <a:xfrm flipH="1" flipV="1">
            <a:off x="4190400" y="3809520"/>
            <a:ext cx="2515320" cy="796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14"/>
          <p:cNvCxnSpPr/>
          <p:nvPr/>
        </p:nvCxnSpPr>
        <p:spPr>
          <a:xfrm flipH="1">
            <a:off x="3961800" y="1904040"/>
            <a:ext cx="2515320" cy="126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16"/>
          <p:cNvCxnSpPr/>
          <p:nvPr/>
        </p:nvCxnSpPr>
        <p:spPr>
          <a:xfrm flipH="1" flipV="1">
            <a:off x="5790960" y="3504960"/>
            <a:ext cx="205776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66680" y="1405080"/>
            <a:ext cx="701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 form of government did the Massachusetts Bay colonists fol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ve 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990720" y="14479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reli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mestown was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ymouth was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chusetts Bay Colony was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143000" y="1066680"/>
            <a:ext cx="71629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mestown had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ymouth had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chusetts Bay Colony had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had the FIRST idea that the settlers had the right to govern themselves?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United States_no states.pdf"/>
          <p:cNvPicPr/>
          <p:nvPr/>
        </p:nvPicPr>
        <p:blipFill>
          <a:blip r:embed="rId1"/>
          <a:stretch/>
        </p:blipFill>
        <p:spPr>
          <a:xfrm>
            <a:off x="2286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797440" y="1125360"/>
            <a:ext cx="334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6400800" y="3060720"/>
            <a:ext cx="24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095880" y="4343400"/>
            <a:ext cx="24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6"/>
          <p:cNvCxnSpPr>
            <a:stCxn id="61" idx="1"/>
          </p:cNvCxnSpPr>
          <p:nvPr/>
        </p:nvCxnSpPr>
        <p:spPr>
          <a:xfrm flipH="1" flipV="1">
            <a:off x="5105160" y="2742480"/>
            <a:ext cx="129600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Straight Arrow Connector 8"/>
          <p:cNvCxnSpPr/>
          <p:nvPr/>
        </p:nvCxnSpPr>
        <p:spPr>
          <a:xfrm flipH="1">
            <a:off x="5104800" y="2132640"/>
            <a:ext cx="14482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Straight Arrow Connector 9"/>
          <p:cNvCxnSpPr/>
          <p:nvPr/>
        </p:nvCxnSpPr>
        <p:spPr>
          <a:xfrm flipH="1" flipV="1">
            <a:off x="4799880" y="3351960"/>
            <a:ext cx="160092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0:17:53Z</dcterms:created>
  <dc:creator>Thomas Hagerty</dc:creator>
  <dc:description/>
  <dc:language>en-US</dc:language>
  <cp:lastModifiedBy>Thomas Hagerty</cp:lastModifiedBy>
  <dcterms:modified xsi:type="dcterms:W3CDTF">2014-10-09T15:24:40Z</dcterms:modified>
  <cp:revision>108</cp:revision>
  <dc:subject/>
  <dc:title>Slide 1</dc:title>
</cp:coreProperties>
</file>